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23.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D7044-C52D-442C-99F4-05FC04314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EFAF6-12B7-4341-B9FF-C9C546431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741B6-2039-4024-82E0-E63F2CDBF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DD3B5-8BB2-4A44-A618-62323251E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4A23B-CA1F-4DD0-BED4-0144F8D27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99159-2098-40F3-9B26-1A37CB495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261D8-2FFF-4665-B8F2-CB2F1FEF9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C4EFD-0DA6-488F-9DA9-E1B616C83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5F103-E224-4FA5-A056-D3546EB57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6A906-EED8-4020-B152-FD3426B05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4CE0C-84B0-4CEB-8401-412DC86AC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EB119-F43B-4C41-A411-2C73C3097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1836B-2550-4218-8DB2-3F363AEAF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B2E90-CD7F-4FE3-B70E-78EEEC9C0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DA425-DD38-441E-87A2-624C07A19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9F359-D087-4557-B43E-5D16AB6A5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DBB27-62EC-4B88-8431-0BA1B526A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192A56-2188-4054-BBC8-CC84814847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3CDCF0-DF9E-4064-83F0-B0332A7B1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B05867-8F13-42BC-BD2C-462795BDB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72E107-97DF-4D99-8801-BED18E0AF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9FA464-CE77-439C-8DB1-A27123D00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7AA91-9052-4A48-A561-0059305AC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9AABD8-2262-4B25-ABE9-495249CDF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55F520-FE2F-44B5-84E8-D240D5D31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48A34-58D9-47F1-8EA4-2A34814938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4A65A-17C4-41B1-A413-33C240DFC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C69DE-0F0C-4A34-B06C-FBB2FC7534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C9D696-BE2D-43B8-9DF1-FA154363AF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13FC48-F45C-4915-B354-B1FB39A219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32607D-86B3-4DD1-BAC4-D86CD7AD10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26B51D-53E7-4A7D-98A5-F26F5542D8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AFC494-FA75-46BC-8F9E-29BEE0AEA1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AA16D-E1B7-4914-9CC1-81D78396D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845FA5-86D2-4C66-812C-D55429619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C653F2-E379-4FB8-BC82-AA31DEDDBE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8755A4-9F02-4356-A97E-AF15F2B3BA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0590D-0FA4-4936-93B1-D588D3B0E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5363F-15B9-41C9-BC01-9FED20848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1545F-8F32-4A3E-B781-C3098213D6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86C98D-0658-4719-A017-E88505419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618420-325F-4C9A-9862-9CF09398CD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785C82-47C1-4536-ACA0-796100F7C2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DF17D1-4F0F-4110-B454-9AFFDDDA39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90C3B-9BE6-4BCC-A434-2EBDD5350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8B4DE0-6B34-4B9C-B57A-962ED5C3FB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2EF5FA-AFB7-4919-9686-803B212274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A5F702-2BA1-4630-9CAE-BE153218F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D5472-486A-4EF6-89F4-4CD9ED2E7F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648C49-CB24-42A7-B1E3-3C47969BD4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133F37-3227-413B-8F92-4BB58C97C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D6A22-FA1F-4E34-87A5-8C82C04E9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85F11-C49E-4939-8F03-E93122B70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E9A3E7-3467-4835-A2B6-B59DED5F40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E44BD7-93A0-4299-9CB5-200642B039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646A5-A0F7-42BB-A29E-CC81BDD31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586998-1A27-47B7-8A0A-F3EC7C1121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EDD352D-BC73-4420-BDAE-C241052D00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999CE9A-2347-43AD-A38A-925E06FF18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F2664F3-8E45-4AFD-B097-EA523DEF96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CDD0691-E05F-4501-83FE-2FED893C0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A77A614-BD5C-4AC4-853D-F62E29EB2E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1831657-0569-4A6E-9BD8-67877DB8F7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A491F8F-4E65-430F-96E8-40C0083226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6094825-405B-4A2D-B584-1725B278D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244A68D-4669-40AD-9B59-822D09B8D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49B94-FAFB-43B2-9121-10C0C50A5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8D41C42-6178-43EB-8749-3FC2B6B917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18746CB-233C-4D8C-BF3F-806F2DA57A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CB2BE79-6FE4-47ED-9C2B-32162E47B9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27B6A4-6C2F-49EA-BC20-DDF6CF7075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72830A-1F54-4EE1-9BC0-7581DC7A6D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F351AD-AE4D-4701-A715-BC677B1885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D0C458-8C99-402F-9586-4879DDFD8D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FE3C27-2FCB-4907-B3EC-BE57973F29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97CFF0-A10A-41B5-AFD2-EC58A621DF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5F6990-094D-46E5-9A3A-FDE39E2CF6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A5E7F-6FF4-4F8F-9F1E-4273A5811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CB5CDE-722F-46F6-A18C-7A17F2689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10B930-A56B-45C0-887C-E3D99239A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3A9FDE-0C13-4DA4-BBCA-ED7479AD2A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EB7C71-A7C3-486D-A1A5-6AA71A5E71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F6BFB7-58AA-410A-A8A8-0ECAEAA1EF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E21A9-B563-4021-9734-21E7169EA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93B4-5A25-43A6-9C05-7DD0FAE606EB}"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490F-703B-458B-BD69-3F242D888147}"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D05B-17FA-4185-9EA5-C6EF55096D32}"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31EF-F6F5-44B3-BF7C-C20402C812A6}"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66D2-C817-47D7-A971-DB294B51C7AB}"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1C31-FB03-4B1F-89F2-6A7900AEC751}"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E7EB-FD19-4665-94B1-07641B529CA1}"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249F-2A0B-49DE-B464-4973ABB47A10}"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77C9-54EB-4831-9041-09B3D6E916FD}"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5D99-9950-4140-A249-04246FA74132}"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E67E-DEAB-4917-9F80-EDE8F7075BAA}"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661F-C4A3-467E-BC95-4E44D934980C}"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ACA4-0651-4255-86CA-106A9C71F360}"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5EB3-FC8E-45D0-8178-B6AE41F57C3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erencie.com/conciliacion.htm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42960" y="3389040"/>
            <a:ext cx="6392880" cy="171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EL EFECTIVO Y EQUIVALENTE DE EFECTIVO</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58" name="Marcador de contenido 3" descr=""/>
          <p:cNvPicPr/>
          <p:nvPr/>
        </p:nvPicPr>
        <p:blipFill>
          <a:blip r:embed="rId1"/>
          <a:stretch/>
        </p:blipFill>
        <p:spPr>
          <a:xfrm>
            <a:off x="444600" y="1755720"/>
            <a:ext cx="8375400" cy="467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60" name="Marcador de contenido 3" descr=""/>
          <p:cNvPicPr/>
          <p:nvPr/>
        </p:nvPicPr>
        <p:blipFill>
          <a:blip r:embed="rId1"/>
          <a:stretch/>
        </p:blipFill>
        <p:spPr>
          <a:xfrm>
            <a:off x="444600" y="1755720"/>
            <a:ext cx="825480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
        <p:nvSpPr>
          <p:cNvPr id="362" name="PlaceHolder 2"/>
          <p:cNvSpPr>
            <a:spLocks noGrp="1"/>
          </p:cNvSpPr>
          <p:nvPr>
            <p:ph type="subTitle"/>
          </p:nvPr>
        </p:nvSpPr>
        <p:spPr>
          <a:xfrm>
            <a:off x="642600" y="4648320"/>
            <a:ext cx="6553080" cy="4572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ARQUEO DE CAJA</a:t>
            </a:r>
            <a:endParaRPr b="0" lang="en-US" sz="1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QUÉ ES EL ARQUEO CAJA?</a:t>
            </a:r>
            <a:endParaRPr b="0" lang="en-US" sz="3500" spc="-1" strike="noStrike">
              <a:solidFill>
                <a:srgbClr val="6b7d72"/>
              </a:solidFill>
              <a:latin typeface="Book Antiqua"/>
            </a:endParaRPr>
          </a:p>
        </p:txBody>
      </p:sp>
      <p:sp>
        <p:nvSpPr>
          <p:cNvPr id="364" name=""/>
          <p:cNvSpPr txBox="1"/>
          <p:nvPr/>
        </p:nvSpPr>
        <p:spPr>
          <a:xfrm>
            <a:off x="457200" y="1752120"/>
            <a:ext cx="8229600" cy="4373640"/>
          </a:xfrm>
          <a:prstGeom prst="rect">
            <a:avLst/>
          </a:prstGeom>
          <a:noFill/>
          <a:ln w="0">
            <a:noFill/>
          </a:ln>
        </p:spPr>
        <p:txBody>
          <a:bodyPr anchor="t">
            <a:normAutofit/>
          </a:bodyPr>
          <a:p>
            <a:pPr marL="114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64b3c"/>
                </a:solidFill>
                <a:latin typeface="Century Gothic"/>
              </a:rPr>
              <a:t>Es un recuento físico del efectivo, es decir que corresponde a todo aquello que se encuentra físicamente en caja chica, en dinero en efectivo, cheques o vale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6b7d72"/>
                </a:solidFill>
                <a:latin typeface="Book Antiqua"/>
              </a:rPr>
              <a:t>PROBABLES CASOS:</a:t>
            </a:r>
            <a:endParaRPr b="0" lang="en-US" sz="4800" spc="-1" strike="noStrike">
              <a:solidFill>
                <a:srgbClr val="6b7d72"/>
              </a:solidFill>
              <a:latin typeface="Book Antiqua"/>
            </a:endParaRPr>
          </a:p>
        </p:txBody>
      </p:sp>
      <p:sp>
        <p:nvSpPr>
          <p:cNvPr id="366" name=""/>
          <p:cNvSpPr txBox="1"/>
          <p:nvPr/>
        </p:nvSpPr>
        <p:spPr>
          <a:xfrm>
            <a:off x="457200" y="2147400"/>
            <a:ext cx="8229600" cy="4373640"/>
          </a:xfrm>
          <a:prstGeom prst="rect">
            <a:avLst/>
          </a:prstGeom>
          <a:noFill/>
          <a:ln w="0">
            <a:noFill/>
          </a:ln>
        </p:spPr>
        <p:txBody>
          <a:bodyPr anchor="t">
            <a:normAutofit/>
          </a:bodyPr>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 saldo según libros.</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lt; saldo según libros</a:t>
            </a:r>
            <a:r>
              <a:rPr b="0" lang="es-ES" sz="4000" spc="-1" strike="noStrike">
                <a:solidFill>
                  <a:srgbClr val="564b3c"/>
                </a:solidFill>
                <a:latin typeface="Century Gothic"/>
              </a:rPr>
              <a:t>.</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gt; saldo según libro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09760" y="275760"/>
            <a:ext cx="8229600" cy="4373640"/>
          </a:xfrm>
          <a:prstGeom prst="rect">
            <a:avLst/>
          </a:prstGeom>
          <a:noFill/>
          <a:ln w="0">
            <a:noFill/>
          </a:ln>
        </p:spPr>
        <p:txBody>
          <a:bodyPr anchor="t">
            <a:normAutofit fontScale="84000"/>
          </a:bodyPr>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empresas pequeñas el arqueo lo realiza el cajero, propietario o administrado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las empresas medianas y grandes el arqueo lo realiza un Auditor interno o Revisor Fiscal.</a:t>
            </a: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Pueden se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Todos lo días.</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Semanalmente.</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timación convenient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http://4.bp.blogspot.com/_eM_vQCevt00/TQxIfie50LI/AAAAAAAAAIE/K-pWayvl_Bw/s1600/Arqueo+de+Caja+Chica.png"/>
          <p:cNvPicPr/>
          <p:nvPr/>
        </p:nvPicPr>
        <p:blipFill>
          <a:blip r:embed="rId1"/>
          <a:stretch/>
        </p:blipFill>
        <p:spPr>
          <a:xfrm>
            <a:off x="2325600" y="353880"/>
            <a:ext cx="4630680" cy="613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000000"/>
                </a:solidFill>
                <a:latin typeface="Book Antiqua"/>
              </a:rPr>
              <a:t>BANCOS</a:t>
            </a:r>
            <a:endParaRPr b="0" lang="en-US" sz="3500" spc="-1" strike="noStrike">
              <a:solidFill>
                <a:srgbClr val="6b7d72"/>
              </a:solidFill>
              <a:latin typeface="Book Antiqua"/>
            </a:endParaRPr>
          </a:p>
        </p:txBody>
      </p:sp>
      <p:sp>
        <p:nvSpPr>
          <p:cNvPr id="37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 una subcuenta del efectivo y los equivalentes de efectivo representa el efectivo propiedad de la empresa o entidad depositado en instituciones bancarias.</a:t>
            </a:r>
            <a:endParaRPr b="0" lang="en-US" sz="3200" spc="-1" strike="noStrike">
              <a:solidFill>
                <a:srgbClr val="564b3c"/>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564b3c"/>
                </a:solidFill>
                <a:latin typeface="Century Gothic"/>
              </a:rPr>
              <a:t>SU SALDO ES DEUDOR.</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MEDICION </a:t>
            </a:r>
            <a:endParaRPr b="0" lang="en-US" sz="3500" spc="-1" strike="noStrike">
              <a:solidFill>
                <a:srgbClr val="6b7d72"/>
              </a:solidFill>
              <a:latin typeface="Book Antiqua"/>
            </a:endParaRPr>
          </a:p>
        </p:txBody>
      </p:sp>
      <p:sp>
        <p:nvSpPr>
          <p:cNvPr id="372" name=""/>
          <p:cNvSpPr txBox="1"/>
          <p:nvPr/>
        </p:nvSpPr>
        <p:spPr>
          <a:xfrm>
            <a:off x="457200" y="1752120"/>
            <a:ext cx="8229600" cy="4373640"/>
          </a:xfrm>
          <a:prstGeom prst="rect">
            <a:avLst/>
          </a:prstGeom>
          <a:noFill/>
          <a:ln w="0">
            <a:noFill/>
          </a:ln>
        </p:spPr>
        <p:txBody>
          <a:bodyPr anchor="t">
            <a:normAutofit/>
          </a:bodyPr>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l efectivo en bancos se mide a su valor nominal.</a:t>
            </a:r>
            <a:endParaRPr b="0" lang="en-US" sz="3200" spc="-1" strike="noStrike">
              <a:solidFill>
                <a:srgbClr val="564b3c"/>
              </a:solidFill>
              <a:latin typeface="Century Gothic"/>
            </a:endParaRPr>
          </a:p>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Los rendimientos sobre depósitos que generan intereses se reconocerán en el estado de resultados conforme se devengu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PRESENTACION EN EL BALANCE </a:t>
            </a:r>
            <a:endParaRPr b="0" lang="en-US" sz="3500" spc="-1" strike="noStrike">
              <a:solidFill>
                <a:srgbClr val="6b7d72"/>
              </a:solidFill>
              <a:latin typeface="Book Antiqua"/>
            </a:endParaRPr>
          </a:p>
        </p:txBody>
      </p:sp>
      <p:sp>
        <p:nvSpPr>
          <p:cNvPr id="374"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os renglones de efectivo deben mostrarse dentro del balance general como las primeras partidas del activo corriente.</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as restricciones a que se refiere el literal anterior deben revelarse en las notas a los estados financieros.</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EL EFECTIVO</a:t>
            </a:r>
            <a:endParaRPr b="0" lang="en-US" sz="3500" spc="-1" strike="noStrike">
              <a:solidFill>
                <a:srgbClr val="6b7d72"/>
              </a:solidFill>
              <a:latin typeface="Book Antiqua"/>
            </a:endParaRPr>
          </a:p>
        </p:txBody>
      </p:sp>
      <p:sp>
        <p:nvSpPr>
          <p:cNvPr id="333" name=""/>
          <p:cNvSpPr txBox="1"/>
          <p:nvPr/>
        </p:nvSpPr>
        <p:spPr>
          <a:xfrm>
            <a:off x="457200" y="1752120"/>
            <a:ext cx="8229600" cy="4373640"/>
          </a:xfrm>
          <a:prstGeom prst="rect">
            <a:avLst/>
          </a:prstGeom>
          <a:noFill/>
          <a:ln w="0">
            <a:noFill/>
          </a:ln>
        </p:spPr>
        <p:txBody>
          <a:bodyPr anchor="t">
            <a:normAutofit/>
          </a:bodyPr>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Es un recurso controlado por la entidad, que se denomina como el valor mas liquido propiedad de la empresa. </a:t>
            </a: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4" name="3 Marcador de contenido" descr="dinero-en-efectivo.jpg"/>
          <p:cNvPicPr/>
          <p:nvPr/>
        </p:nvPicPr>
        <p:blipFill>
          <a:blip r:embed="rId1"/>
          <a:stretch/>
        </p:blipFill>
        <p:spPr>
          <a:xfrm>
            <a:off x="3963960" y="3557520"/>
            <a:ext cx="3908520" cy="24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333000"/>
            <a:ext cx="8229600" cy="579276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Los cheques librados con anterioridad a la fecha de cierre de operaciones y que esten pendientes de entrega a los beneficiarios deben presentarse formando parte del reglón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Todos los cheques librados(firmando) pero no entregados físicamente a los beneficiarios no deben de disminuir del reglón de efectivo en 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S A LA VISTA</a:t>
            </a:r>
            <a:endParaRPr b="0" lang="en-US" sz="3500" spc="-1" strike="noStrike">
              <a:solidFill>
                <a:srgbClr val="6b7d72"/>
              </a:solidFill>
              <a:latin typeface="Book Antiqua"/>
            </a:endParaRPr>
          </a:p>
        </p:txBody>
      </p:sp>
      <p:sp>
        <p:nvSpPr>
          <p:cNvPr id="377" name=""/>
          <p:cNvSpPr txBox="1"/>
          <p:nvPr/>
        </p:nvSpPr>
        <p:spPr>
          <a:xfrm>
            <a:off x="457200" y="1752120"/>
            <a:ext cx="8229600" cy="486108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Aquél en que los bienes depositados pueden ser solicitados por el depositante en cualquier momento. Dinero que se deposita en cuenta corriente, por ejemplo, los depósitos bancarios que se pueden retirar sin aviso previo. Entrega de dinero títulos o valores a una institución bancaria con el objeto de que se guarden y se regresen mediante la presentación de un documento "a la vista" que ampare dichos bienes. Legalmente el depósito a la vista significa un crédito contra el activo de un banco; un ejemplo es la cuenta de cheques.</a:t>
            </a: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 A PLAZO </a:t>
            </a:r>
            <a:endParaRPr b="0" lang="en-US" sz="3500" spc="-1" strike="noStrike">
              <a:solidFill>
                <a:srgbClr val="6b7d72"/>
              </a:solidFill>
              <a:latin typeface="Book Antiqua"/>
            </a:endParaRPr>
          </a:p>
        </p:txBody>
      </p:sp>
      <p:sp>
        <p:nvSpPr>
          <p:cNvPr id="379" name=""/>
          <p:cNvSpPr txBox="1"/>
          <p:nvPr/>
        </p:nvSpPr>
        <p:spPr>
          <a:xfrm>
            <a:off x="457200" y="1752120"/>
            <a:ext cx="8229600" cy="4373640"/>
          </a:xfrm>
          <a:prstGeom prst="rect">
            <a:avLst/>
          </a:prstGeom>
          <a:noFill/>
          <a:ln w="0">
            <a:noFill/>
          </a:ln>
        </p:spPr>
        <p:txBody>
          <a:bodyPr anchor="t">
            <a:normAutofit/>
          </a:bodyPr>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Dinero confiado a entidades bancarias que genera mayor interés que el resto de depósitos bancarios</a:t>
            </a:r>
            <a:r>
              <a:rPr b="0" lang="es-SV" sz="2400" spc="-1" strike="noStrike">
                <a:solidFill>
                  <a:srgbClr val="564b3c"/>
                </a:solidFill>
                <a:latin typeface="Century Gothic"/>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ONCILIACIÓN BANCARIA</a:t>
            </a:r>
            <a:endParaRPr b="0" lang="en-US" sz="3500" spc="-1" strike="noStrike">
              <a:solidFill>
                <a:srgbClr val="6b7d72"/>
              </a:solidFill>
              <a:latin typeface="Book Antiqua"/>
            </a:endParaRPr>
          </a:p>
        </p:txBody>
      </p:sp>
      <p:sp>
        <p:nvSpPr>
          <p:cNvPr id="381"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La </a:t>
            </a:r>
            <a:r>
              <a:rPr b="0" lang="es-SV" sz="2400" spc="-1" strike="noStrike" u="sng">
                <a:solidFill>
                  <a:srgbClr val="cccc00"/>
                </a:solidFill>
                <a:uFillTx/>
                <a:latin typeface="Century Gothic"/>
                <a:hlinkClick r:id="rId1"/>
              </a:rPr>
              <a:t>conciliación</a:t>
            </a:r>
            <a:r>
              <a:rPr b="0" lang="es-SV" sz="2400" spc="-1" strike="noStrike">
                <a:solidFill>
                  <a:srgbClr val="000000"/>
                </a:solidFill>
                <a:latin typeface="Century Gothic"/>
              </a:rPr>
              <a:t> bancaria es un proceso que permite </a:t>
            </a:r>
            <a:r>
              <a:rPr b="1" lang="es-SV" sz="2400" spc="-1" strike="noStrike">
                <a:solidFill>
                  <a:srgbClr val="000000"/>
                </a:solidFill>
                <a:latin typeface="Century Gothic"/>
              </a:rPr>
              <a:t>confrontar y conciliar</a:t>
            </a:r>
            <a:r>
              <a:rPr b="0" lang="es-SV" sz="2400" spc="-1" strike="noStrike">
                <a:solidFill>
                  <a:srgbClr val="000000"/>
                </a:solidFill>
                <a:latin typeface="Century Gothic"/>
              </a:rPr>
              <a:t> los valores que la empresa tiene registrados, de una cuenta de ahorros o corriente, con los valores que el banco suministra por medio del extracto bancari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25520" y="407880"/>
            <a:ext cx="8261280" cy="14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b7d72"/>
                </a:solidFill>
                <a:latin typeface="Book Antiqua"/>
              </a:rPr>
              <a:t>¿POR QUÉ EL SALDO DEL MAYOR DEL EFECTIVO Y EQUIVALENTE (BANCO) NO COINCIDE CON EL SALDO DEL ESTADO DE CUENTA BANCARIO?</a:t>
            </a:r>
            <a:br>
              <a:rPr sz="3200"/>
            </a:br>
            <a:endParaRPr b="0" lang="en-US" sz="2000" spc="-1" strike="noStrike">
              <a:solidFill>
                <a:srgbClr val="6b7d72"/>
              </a:solidFill>
              <a:latin typeface="Book Antiqua"/>
            </a:endParaRPr>
          </a:p>
        </p:txBody>
      </p:sp>
      <p:sp>
        <p:nvSpPr>
          <p:cNvPr id="383"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a es la pregunta que se hacen muchos propietarios de negocios e incluso uno que otro gerente, los cuales no logran entender el manejo y utilización de los fondos bancario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Uno de los motivos por los cuales no coinciden ambos saldos todos los meses, es porque el banco carga o abona cantidades, sin comunicarlo a la empresa en la fecha que lo hace, si no que hasta que el estado de cuenta llega, la empresa puede saber qué cantidades aumento y disminuyo el banco y también de donde provienen esas transaccione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AUSAS DE LAS DIFERENCIAS</a:t>
            </a:r>
            <a:endParaRPr b="0" lang="en-US" sz="3500" spc="-1" strike="noStrike">
              <a:solidFill>
                <a:srgbClr val="6b7d72"/>
              </a:solidFill>
              <a:latin typeface="Book Antiqua"/>
            </a:endParaRPr>
          </a:p>
        </p:txBody>
      </p:sp>
      <p:sp>
        <p:nvSpPr>
          <p:cNvPr id="385" name=""/>
          <p:cNvSpPr txBox="1"/>
          <p:nvPr/>
        </p:nvSpPr>
        <p:spPr>
          <a:xfrm>
            <a:off x="457200" y="1839960"/>
            <a:ext cx="8229600" cy="34639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DEPOSITO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HEQUE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DEB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CRED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EN LOS LIBROS DE LA EMPRESA</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DEL BANC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EJEMPLOS DE ESTRUCTURAS DE CONCILIACIONES.</a:t>
            </a:r>
            <a:endParaRPr b="0" lang="en-US" sz="3200" spc="-1" strike="noStrike">
              <a:solidFill>
                <a:srgbClr val="6b7d72"/>
              </a:solidFill>
              <a:latin typeface="Book Antiqua"/>
            </a:endParaRPr>
          </a:p>
        </p:txBody>
      </p:sp>
      <p:pic>
        <p:nvPicPr>
          <p:cNvPr id="387" name="5 Marcador de contenido" descr="conciliacion-b1.jpg"/>
          <p:cNvPicPr/>
          <p:nvPr/>
        </p:nvPicPr>
        <p:blipFill>
          <a:blip r:embed="rId1"/>
          <a:stretch/>
        </p:blipFill>
        <p:spPr>
          <a:xfrm>
            <a:off x="611280" y="1844640"/>
            <a:ext cx="3425760" cy="4525920"/>
          </a:xfrm>
          <a:prstGeom prst="rect">
            <a:avLst/>
          </a:prstGeom>
          <a:ln w="0">
            <a:noFill/>
          </a:ln>
        </p:spPr>
      </p:pic>
      <p:pic>
        <p:nvPicPr>
          <p:cNvPr id="388" name="6 Imagen" descr="empresa-x.jpg"/>
          <p:cNvPicPr/>
          <p:nvPr/>
        </p:nvPicPr>
        <p:blipFill>
          <a:blip r:embed="rId2"/>
          <a:stretch/>
        </p:blipFill>
        <p:spPr>
          <a:xfrm>
            <a:off x="4500720" y="2133720"/>
            <a:ext cx="3809880" cy="3733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SOFTWARE</a:t>
            </a:r>
            <a:endParaRPr b="0" lang="en-US" sz="3500" spc="-1" strike="noStrike">
              <a:solidFill>
                <a:srgbClr val="6b7d72"/>
              </a:solidFill>
              <a:latin typeface="Book Antiqua"/>
            </a:endParaRPr>
          </a:p>
        </p:txBody>
      </p:sp>
      <p:pic>
        <p:nvPicPr>
          <p:cNvPr id="390" name="4 Imagen" descr="COF218-L10802-2011 CONCILIACIN BANCARIA - Torch.jpg"/>
          <p:cNvPicPr/>
          <p:nvPr/>
        </p:nvPicPr>
        <p:blipFill>
          <a:blip r:embed="rId1"/>
          <a:stretch/>
        </p:blipFill>
        <p:spPr>
          <a:xfrm>
            <a:off x="190440" y="1341360"/>
            <a:ext cx="4424400" cy="2592360"/>
          </a:xfrm>
          <a:prstGeom prst="rect">
            <a:avLst/>
          </a:prstGeom>
          <a:ln w="0">
            <a:noFill/>
          </a:ln>
        </p:spPr>
      </p:pic>
      <p:pic>
        <p:nvPicPr>
          <p:cNvPr id="391" name="5 Imagen" descr="COF218-L10802-2011 CONCILIACIN BANCARIA - Torch.jpg"/>
          <p:cNvPicPr/>
          <p:nvPr/>
        </p:nvPicPr>
        <p:blipFill>
          <a:blip r:embed="rId2"/>
          <a:stretch/>
        </p:blipFill>
        <p:spPr>
          <a:xfrm>
            <a:off x="4572000" y="1341360"/>
            <a:ext cx="4300560" cy="2592360"/>
          </a:xfrm>
          <a:prstGeom prst="rect">
            <a:avLst/>
          </a:prstGeom>
          <a:ln w="0">
            <a:noFill/>
          </a:ln>
        </p:spPr>
      </p:pic>
      <p:pic>
        <p:nvPicPr>
          <p:cNvPr id="392" name="6 Imagen" descr="COF218-L10802-2011 CONCILIACIN BANCARIA - Torch 1.jpg"/>
          <p:cNvPicPr/>
          <p:nvPr/>
        </p:nvPicPr>
        <p:blipFill>
          <a:blip r:embed="rId3"/>
          <a:stretch/>
        </p:blipFill>
        <p:spPr>
          <a:xfrm>
            <a:off x="2411280" y="4005360"/>
            <a:ext cx="432612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INTEGRADO POR</a:t>
            </a:r>
            <a:endParaRPr b="0" lang="en-US" sz="3500" spc="-1" strike="noStrike">
              <a:solidFill>
                <a:srgbClr val="6b7d72"/>
              </a:solidFill>
              <a:latin typeface="Book Antiqua"/>
            </a:endParaRPr>
          </a:p>
        </p:txBody>
      </p:sp>
      <p:sp>
        <p:nvSpPr>
          <p:cNvPr id="336" name=""/>
          <p:cNvSpPr txBox="1"/>
          <p:nvPr/>
        </p:nvSpPr>
        <p:spPr>
          <a:xfrm>
            <a:off x="425520" y="1719360"/>
            <a:ext cx="4781520" cy="488160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Caja, billetes y monedas, depósitos bancarios en cuentas de ahorro, cuenta corriente o cheques, giros bancarios, remesas en tránsito, monedas extranjeras y metales preciosos amonedados (oro, plata)</a:t>
            </a: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7" name="4 Marcador de contenido" descr="descarga.jpg"/>
          <p:cNvPicPr/>
          <p:nvPr/>
        </p:nvPicPr>
        <p:blipFill>
          <a:blip r:embed="rId1"/>
          <a:stretch/>
        </p:blipFill>
        <p:spPr>
          <a:xfrm>
            <a:off x="4761000" y="1574640"/>
            <a:ext cx="1941480" cy="1452600"/>
          </a:xfrm>
          <a:prstGeom prst="rect">
            <a:avLst/>
          </a:prstGeom>
          <a:ln w="0">
            <a:noFill/>
          </a:ln>
        </p:spPr>
      </p:pic>
      <p:pic>
        <p:nvPicPr>
          <p:cNvPr id="338" name="Picture 2" descr="C:\Users\Padilla Rivera\Downloads\VANESSA\images.jpg"/>
          <p:cNvPicPr/>
          <p:nvPr/>
        </p:nvPicPr>
        <p:blipFill>
          <a:blip r:embed="rId2"/>
          <a:stretch/>
        </p:blipFill>
        <p:spPr>
          <a:xfrm>
            <a:off x="6900840" y="1719360"/>
            <a:ext cx="2205000" cy="1658880"/>
          </a:xfrm>
          <a:prstGeom prst="rect">
            <a:avLst/>
          </a:prstGeom>
          <a:ln w="0">
            <a:noFill/>
          </a:ln>
        </p:spPr>
      </p:pic>
      <p:pic>
        <p:nvPicPr>
          <p:cNvPr id="339" name="Picture 4" descr="http://4.bp.blogspot.com/_HTz83adsfcw/TMWltVzVFkI/AAAAAAAAAAM/aoSIGBGr2YM/s1600/1_1_producto_231_cajas-registradoras-caja-registradora-olympia-cm-711%5B1%5D.gif"/>
          <p:cNvPicPr/>
          <p:nvPr/>
        </p:nvPicPr>
        <p:blipFill>
          <a:blip r:embed="rId3"/>
          <a:stretch/>
        </p:blipFill>
        <p:spPr>
          <a:xfrm>
            <a:off x="5207040" y="3378240"/>
            <a:ext cx="1676520" cy="1676520"/>
          </a:xfrm>
          <a:prstGeom prst="rect">
            <a:avLst/>
          </a:prstGeom>
          <a:ln w="0">
            <a:noFill/>
          </a:ln>
        </p:spPr>
      </p:pic>
      <p:sp>
        <p:nvSpPr>
          <p:cNvPr id="34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342" name="Picture 10" descr="http://dineroexperto.com.ar/blog/wp-content/uploads/cuentas_corrientes.jpg"/>
          <p:cNvPicPr/>
          <p:nvPr/>
        </p:nvPicPr>
        <p:blipFill>
          <a:blip r:embed="rId4"/>
          <a:stretch/>
        </p:blipFill>
        <p:spPr>
          <a:xfrm>
            <a:off x="6411960" y="5054760"/>
            <a:ext cx="2274840" cy="160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444600"/>
            <a:ext cx="8229600" cy="568152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Regla de presentación: </a:t>
            </a:r>
            <a:r>
              <a:rPr b="0" lang="es-ES" sz="2400" spc="-1" strike="noStrike">
                <a:solidFill>
                  <a:srgbClr val="564b3c"/>
                </a:solidFill>
                <a:latin typeface="Century Gothic"/>
              </a:rPr>
              <a:t>En el estado de situación financiera.</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BALANCE GENERAL</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 CORRIENTE</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EFECTIVO Y EQUIVALENTE DE EFE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Chic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Equivalentes del efectiv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LASIFICACIÓN DEL</a:t>
            </a:r>
            <a:br>
              <a:rPr sz="3200"/>
            </a:br>
            <a:r>
              <a:rPr b="0" lang="es-ES" sz="3200" spc="-1" strike="noStrike">
                <a:solidFill>
                  <a:srgbClr val="6b7d72"/>
                </a:solidFill>
                <a:latin typeface="Book Antiqua"/>
              </a:rPr>
              <a:t> EFECTIVO</a:t>
            </a:r>
            <a:endParaRPr b="0" lang="en-US" sz="3200" spc="-1" strike="noStrike">
              <a:solidFill>
                <a:srgbClr val="6b7d72"/>
              </a:solidFill>
              <a:latin typeface="Book Antiqua"/>
            </a:endParaRPr>
          </a:p>
        </p:txBody>
      </p:sp>
      <p:pic>
        <p:nvPicPr>
          <p:cNvPr id="345" name="4 Marcador de contenido" descr=""/>
          <p:cNvPicPr/>
          <p:nvPr/>
        </p:nvPicPr>
        <p:blipFill>
          <a:blip r:embed="rId1"/>
          <a:stretch/>
        </p:blipFill>
        <p:spPr>
          <a:xfrm>
            <a:off x="152280" y="1596960"/>
            <a:ext cx="8869320" cy="478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CARACTERÍSTICAS DE LOS EQUIVALENTES DEL EFECTIVO</a:t>
            </a:r>
            <a:endParaRPr b="0" lang="en-US" sz="3200" spc="-1" strike="noStrike">
              <a:solidFill>
                <a:srgbClr val="6b7d72"/>
              </a:solidFill>
              <a:latin typeface="Book Antiqua"/>
            </a:endParaRPr>
          </a:p>
        </p:txBody>
      </p:sp>
      <p:sp>
        <p:nvSpPr>
          <p:cNvPr id="347"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onvertirse fácilmente en una cantidad determinada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án sujetos a un riesgo insignificante de cambio en su valor.</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Son de un periodo menor de tres meses desde la fecha de adquisición</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grpSp>
        <p:nvGrpSpPr>
          <p:cNvPr id="348" name="4 CuadroTexto"/>
          <p:cNvGrpSpPr/>
          <p:nvPr/>
        </p:nvGrpSpPr>
        <p:grpSpPr>
          <a:xfrm>
            <a:off x="6175440" y="5450040"/>
            <a:ext cx="1938240" cy="420480"/>
            <a:chOff x="6175440" y="5450040"/>
            <a:chExt cx="1938240" cy="420480"/>
          </a:xfrm>
        </p:grpSpPr>
        <p:pic>
          <p:nvPicPr>
            <p:cNvPr id="349" name="4 CuadroTexto" descr=""/>
            <p:cNvPicPr/>
            <p:nvPr/>
          </p:nvPicPr>
          <p:blipFill>
            <a:blip r:embed="rId1"/>
            <a:stretch/>
          </p:blipFill>
          <p:spPr>
            <a:xfrm>
              <a:off x="6175440" y="5450040"/>
              <a:ext cx="1938240" cy="420480"/>
            </a:xfrm>
            <a:prstGeom prst="rect">
              <a:avLst/>
            </a:prstGeom>
            <a:ln w="0">
              <a:noFill/>
            </a:ln>
          </p:spPr>
        </p:pic>
        <p:sp>
          <p:nvSpPr>
            <p:cNvPr id="350" name=""/>
            <p:cNvSpPr/>
            <p:nvPr/>
          </p:nvSpPr>
          <p:spPr>
            <a:xfrm>
              <a:off x="6200640" y="5475240"/>
              <a:ext cx="188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Ref. NIC 7:7</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Definición de caja chica</a:t>
            </a:r>
            <a:endParaRPr b="0" lang="en-US" sz="3500" spc="-1" strike="noStrike">
              <a:solidFill>
                <a:srgbClr val="6b7d72"/>
              </a:solidFill>
              <a:latin typeface="Book Antiqua"/>
            </a:endParaRPr>
          </a:p>
        </p:txBody>
      </p:sp>
      <p:sp>
        <p:nvSpPr>
          <p:cNvPr id="353"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64b3c"/>
                </a:solidFill>
                <a:latin typeface="Century Gothic"/>
              </a:rPr>
              <a:t>Caja chica: </a:t>
            </a:r>
            <a:r>
              <a:rPr b="0" lang="es-ES" sz="2800" spc="-1" strike="noStrike">
                <a:solidFill>
                  <a:srgbClr val="564b3c"/>
                </a:solidFill>
                <a:latin typeface="Century Gothic"/>
              </a:rPr>
              <a:t>Es un monto fijo o variable para gastos menores, dinero en efectivo que se asigna a un empleado, disponible para desembolsos menores, que generalmente se lleva bajo el sistema de fondo fijo o variable, el monto de los gastos que se realizan con este fondo son tan pequeños que no es conveniente pagarlos con cheque.</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sp>
        <p:nvSpPr>
          <p:cNvPr id="355"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Este monto esta destinado a efectuar pago menores y para establecerlo se siguen los siguientes pasos: </a:t>
            </a:r>
            <a:endParaRPr b="0" lang="en-US" sz="2400" spc="-1" strike="noStrike">
              <a:solidFill>
                <a:srgbClr val="564b3c"/>
              </a:solidFill>
              <a:latin typeface="Century Gothic"/>
            </a:endParaRPr>
          </a:p>
        </p:txBody>
      </p:sp>
      <p:pic>
        <p:nvPicPr>
          <p:cNvPr id="356" name="Diagrama 5" descr=""/>
          <p:cNvPicPr/>
          <p:nvPr/>
        </p:nvPicPr>
        <p:blipFill>
          <a:blip r:embed="rId1"/>
          <a:stretch/>
        </p:blipFill>
        <p:spPr>
          <a:xfrm>
            <a:off x="444600" y="2030400"/>
            <a:ext cx="8297640" cy="43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6T00:47:44Z</dcterms:created>
  <dc:creator>Rafael  Martinez</dc:creator>
  <dc:description/>
  <dc:language>en-US</dc:language>
  <cp:lastModifiedBy>Estudiante</cp:lastModifiedBy>
  <dcterms:modified xsi:type="dcterms:W3CDTF">2014-08-29T14:12:59Z</dcterms:modified>
  <cp:revision>31</cp:revision>
  <dc:subject/>
  <dc:title>CAJA CHICA</dc:title>
</cp:coreProperties>
</file>