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107-C9B2-4F82-AA80-66867BB1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F3D-CF05-44F2-89CB-000B7AC4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0C8-F0B8-42B3-9807-672A7C53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F88-1A90-4235-A6B1-CA1AAB69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48B-F210-477F-9E3B-09689E69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5BD-9F1E-4703-9E43-7CB2E1ED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1FA-2617-4F04-9E4B-B24938BF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B54-8F07-4D4E-AC3D-61306B50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03C-CFBE-45A6-AB33-9595CBAF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8F6-71F1-448C-B479-1CA56F5B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B44-C04C-4D77-A188-6289FDA7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43CC-B7F5-42FA-98B9-0AEA126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29BE-9D34-4C76-94DF-EC97FE87FC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680" y="764640"/>
            <a:ext cx="44272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strumentos </a:t>
            </a:r>
            <a:br>
              <a:rPr sz="3600"/>
            </a:b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Financieros Básicos</a:t>
            </a:r>
            <a:br>
              <a:rPr sz="36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 (EJEMPLOS DE INTRUMENTOS </a:t>
            </a:r>
            <a:br>
              <a:rPr sz="1400"/>
            </a:br>
            <a:r>
              <a:rPr b="1" lang="es-SV" sz="1400" spc="-1" strike="noStrike">
                <a:solidFill>
                  <a:srgbClr val="000000"/>
                </a:solidFill>
                <a:latin typeface="Arial"/>
              </a:rPr>
              <a:t>FINANCIEROS</a:t>
            </a: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6300720" y="765000"/>
            <a:ext cx="15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Arial"/>
              </a:rPr>
              <a:t>Grupo #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935840" y="58680"/>
            <a:ext cx="1158840" cy="120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181080" y="115920"/>
            <a:ext cx="86184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10"/>
          <p:cNvSpPr/>
          <p:nvPr/>
        </p:nvSpPr>
        <p:spPr>
          <a:xfrm>
            <a:off x="846000" y="6021360"/>
            <a:ext cx="44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ffffff"/>
                </a:solidFill>
                <a:latin typeface="Arial"/>
              </a:rPr>
              <a:t>Lic. Javier Mirand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0"/>
          <p:cNvSpPr/>
          <p:nvPr/>
        </p:nvSpPr>
        <p:spPr>
          <a:xfrm>
            <a:off x="301680" y="2781360"/>
            <a:ext cx="4427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6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Franklin Alexander Leiva Ménd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Douglas Alexander Villalobos Pine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Héctor salvador Évora Amay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Rocío Andreina Figueroa R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Jorge Mej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26560" y="141300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te ocurre debido a que al tratarse de un hecho que ocurrirá en el futuro, el instrumento financiero y las condiciones que lo regulan están sujetas a incertidumb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1557360"/>
            <a:ext cx="74167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EJEMPLOS DE INTRUMENTOS </a:t>
            </a:r>
            <a:br>
              <a:rPr sz="5400"/>
            </a:br>
            <a:r>
              <a:rPr b="0" lang="es-SV" sz="5400" spc="-1" strike="noStrike">
                <a:solidFill>
                  <a:srgbClr val="000000"/>
                </a:solidFill>
                <a:latin typeface="Arial"/>
              </a:rPr>
              <a:t>FINANCIERO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Un banco paga por anticipado a una entidad un préstamo a cinco años. El banco también le brinda a la entidad una facilidad de sobregiro por una cierta cantidad de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Rectángulo"/>
          <p:cNvSpPr/>
          <p:nvPr/>
        </p:nvSpPr>
        <p:spPr>
          <a:xfrm>
            <a:off x="755640" y="2936880"/>
            <a:ext cx="151272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 Rectángulo"/>
          <p:cNvSpPr/>
          <p:nvPr/>
        </p:nvSpPr>
        <p:spPr>
          <a:xfrm>
            <a:off x="6773760" y="2936880"/>
            <a:ext cx="1513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13 Conector angular"/>
          <p:cNvCxnSpPr>
            <a:stCxn id="69" idx="3"/>
          </p:cNvCxnSpPr>
          <p:nvPr/>
        </p:nvCxnSpPr>
        <p:spPr>
          <a:xfrm>
            <a:off x="2268000" y="3441600"/>
            <a:ext cx="4249080" cy="50400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2" name="14 CuadroTexto"/>
          <p:cNvSpPr/>
          <p:nvPr/>
        </p:nvSpPr>
        <p:spPr>
          <a:xfrm>
            <a:off x="2398680" y="2921040"/>
            <a:ext cx="172728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Préstamo ha 5 Añ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18 Conector angular"/>
          <p:cNvCxnSpPr>
            <a:stCxn id="69" idx="3"/>
          </p:cNvCxnSpPr>
          <p:nvPr/>
        </p:nvCxnSpPr>
        <p:spPr>
          <a:xfrm flipV="1">
            <a:off x="2268360" y="2936520"/>
            <a:ext cx="4176000" cy="505440"/>
          </a:xfrm>
          <a:prstGeom prst="bentConnector3">
            <a:avLst>
              <a:gd name="adj1" fmla="val 50814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21 CuadroTexto"/>
          <p:cNvSpPr/>
          <p:nvPr/>
        </p:nvSpPr>
        <p:spPr>
          <a:xfrm>
            <a:off x="2413080" y="3527280"/>
            <a:ext cx="17287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Banco Otorga Facilidad de Sobre Gi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22 Conector angular"/>
          <p:cNvCxnSpPr>
            <a:stCxn id="70" idx="0"/>
            <a:endCxn id="69" idx="0"/>
          </p:cNvCxnSpPr>
          <p:nvPr/>
        </p:nvCxnSpPr>
        <p:spPr>
          <a:xfrm flipV="1" rot="16200000">
            <a:off x="4521240" y="-72720"/>
            <a:ext cx="13680" cy="6018840"/>
          </a:xfrm>
          <a:prstGeom prst="bentConnector3">
            <a:avLst>
              <a:gd name="adj1" fmla="val 5759459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6" name="26 Conector angular"/>
          <p:cNvCxnSpPr>
            <a:stCxn id="70" idx="2"/>
            <a:endCxn id="69" idx="2"/>
          </p:cNvCxnSpPr>
          <p:nvPr/>
        </p:nvCxnSpPr>
        <p:spPr>
          <a:xfrm rot="5400000">
            <a:off x="4521240" y="935640"/>
            <a:ext cx="13320" cy="6018840"/>
          </a:xfrm>
          <a:prstGeom prst="bentConnector3">
            <a:avLst>
              <a:gd name="adj1" fmla="val 5850000"/>
            </a:avLst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28 CuadroTexto"/>
          <p:cNvSpPr/>
          <p:nvPr/>
        </p:nvSpPr>
        <p:spPr>
          <a:xfrm>
            <a:off x="1897200" y="5445000"/>
            <a:ext cx="5260680" cy="70308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sobregiro sucede cuando usted no tiene suficiente dinero en su cuenta para cubrir una transacción y el banco la paga de todos modos. Puede incurrir un sobregiro con cheques, transacciones de cajero automático (ATM/ATH), compras con tarjeta de débito, pagos automáticos de facturas y retiros electrónicos o e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29 CuadroTexto"/>
          <p:cNvSpPr/>
          <p:nvPr/>
        </p:nvSpPr>
        <p:spPr>
          <a:xfrm>
            <a:off x="2556000" y="1739880"/>
            <a:ext cx="39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Obligación de reembolsar el présta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30 CuadroTexto"/>
          <p:cNvSpPr/>
          <p:nvPr/>
        </p:nvSpPr>
        <p:spPr>
          <a:xfrm flipH="1">
            <a:off x="2883600" y="4768920"/>
            <a:ext cx="35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La obligación de pago del sobregir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5280" y="2421000"/>
            <a:ext cx="75819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posee acciones preferentes en la entidad B. Las acciones preferentes le otorgan el derecho a la entidad A de obtener dividendos, pero no el derecho de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2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Instrumentos financieros básic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ff0000"/>
                </a:solidFill>
                <a:latin typeface="Arial"/>
              </a:rPr>
              <a:t>Una entidad contabilizará los siguientes instrumentos financieros como instrumentos  financieros básicos de acuerdo con lo establecido en la Sección 11.8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a) Efectiv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b) Un instrumento de deuda (como una cuenta, pagaré o préstamo por cobrar o pagar) que cumpla las condiciones del párrafo 11.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c) Un compromiso de recibir un préstam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) no pueda liquidarse por el importe neto en efectivo,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ii) cuando se ejecute el compromiso, se espera que cumpla las  condiciones del párrafo 11.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</a:rPr>
              <a:t>(d) Una inversión en acciones preferentes no convertibles y acciones preferentes o acciones ordinarias sin opción de ve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1 Rectángulo"/>
          <p:cNvSpPr/>
          <p:nvPr/>
        </p:nvSpPr>
        <p:spPr>
          <a:xfrm>
            <a:off x="324000" y="1547640"/>
            <a:ext cx="136836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CuadroTexto"/>
          <p:cNvSpPr/>
          <p:nvPr/>
        </p:nvSpPr>
        <p:spPr>
          <a:xfrm>
            <a:off x="395280" y="19764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897440" y="1476360"/>
            <a:ext cx="1395360" cy="1249200"/>
          </a:xfrm>
          <a:prstGeom prst="rect">
            <a:avLst/>
          </a:prstGeom>
          <a:ln w="0">
            <a:noFill/>
          </a:ln>
        </p:spPr>
      </p:pic>
      <p:sp>
        <p:nvSpPr>
          <p:cNvPr id="87" name="6 CuadroTexto"/>
          <p:cNvSpPr/>
          <p:nvPr/>
        </p:nvSpPr>
        <p:spPr>
          <a:xfrm>
            <a:off x="4983120" y="18511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 redondeado"/>
          <p:cNvSpPr/>
          <p:nvPr/>
        </p:nvSpPr>
        <p:spPr>
          <a:xfrm>
            <a:off x="2638440" y="2612880"/>
            <a:ext cx="1297080" cy="158436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584360"/>
              <a:gd name="textAreaBottom" fmla="*/ 1521360 h 1584360"/>
            </a:gdLst>
            <a:ahLst/>
            <a:rect l="textAreaLeft" t="textAreaTop" r="textAreaRight" b="textAreaBottom"/>
            <a:pathLst>
              <a:path w="21600" h="26383">
                <a:moveTo>
                  <a:pt x="3600" y="0"/>
                </a:moveTo>
                <a:arcTo wR="3600" hR="3600" stAng="16200000" swAng="-5400000"/>
                <a:lnTo>
                  <a:pt x="0" y="22783"/>
                </a:lnTo>
                <a:arcTo wR="3600" hR="3600" stAng="10800000" swAng="-5400000"/>
                <a:lnTo>
                  <a:pt x="18000" y="263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CuadroTexto"/>
          <p:cNvSpPr/>
          <p:nvPr/>
        </p:nvSpPr>
        <p:spPr>
          <a:xfrm>
            <a:off x="2612880" y="308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Prefer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12 Conector curvado"/>
          <p:cNvCxnSpPr>
            <a:stCxn id="88" idx="3"/>
            <a:endCxn id="86" idx="2"/>
          </p:cNvCxnSpPr>
          <p:nvPr/>
        </p:nvCxnSpPr>
        <p:spPr>
          <a:xfrm flipV="1">
            <a:off x="3935520" y="2725200"/>
            <a:ext cx="1661040" cy="68040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1" name="20 CuadroTexto"/>
          <p:cNvSpPr/>
          <p:nvPr/>
        </p:nvSpPr>
        <p:spPr>
          <a:xfrm>
            <a:off x="2459160" y="17683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Divide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5 CuadroTexto"/>
          <p:cNvSpPr/>
          <p:nvPr/>
        </p:nvSpPr>
        <p:spPr>
          <a:xfrm>
            <a:off x="485640" y="3944880"/>
            <a:ext cx="1258920" cy="3985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6 CuadroTexto"/>
          <p:cNvSpPr/>
          <p:nvPr/>
        </p:nvSpPr>
        <p:spPr>
          <a:xfrm>
            <a:off x="4765680" y="3735360"/>
            <a:ext cx="1260360" cy="703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Instrumentos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trimoni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*P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3 CuadroTexto"/>
          <p:cNvSpPr/>
          <p:nvPr/>
        </p:nvSpPr>
        <p:spPr>
          <a:xfrm>
            <a:off x="6386400" y="4361040"/>
            <a:ext cx="2503440" cy="100764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SV" sz="1000" spc="-1" strike="noStrike">
                <a:solidFill>
                  <a:srgbClr val="ffffff"/>
                </a:solidFill>
                <a:latin typeface="Arial"/>
              </a:rPr>
              <a:t>activo financiero</a:t>
            </a: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 es un activo intangible materializado en un título o simplemente en una anotación contable, por el que el comprador del título adquiere el derecho a recibir un ingreso futuro de parte del vended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8 CuadroTexto"/>
          <p:cNvSpPr/>
          <p:nvPr/>
        </p:nvSpPr>
        <p:spPr>
          <a:xfrm>
            <a:off x="6721560" y="1739880"/>
            <a:ext cx="2168280" cy="22258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Los instrumentos que en su totalidad o en una de sus partes sean calificados como pasivos financieros se clasificarán en alguna de las siguientes categorías, a efectos de su valoració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Débitos y partidas a pag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Pasivos financieros mantenidos para negocia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Otros pasivos financieros a valor razonable con cambios en la cuenta de Pérdidas y gananci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4107 Conector curvado"/>
          <p:cNvCxnSpPr>
            <a:stCxn id="84" idx="2"/>
            <a:endCxn id="88" idx="1"/>
          </p:cNvCxnSpPr>
          <p:nvPr/>
        </p:nvCxnSpPr>
        <p:spPr>
          <a:xfrm flipH="1" rot="16200000">
            <a:off x="1505520" y="2273040"/>
            <a:ext cx="634320" cy="1631160"/>
          </a:xfrm>
          <a:prstGeom prst="curvedConnector2">
            <a:avLst/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97" name="4117 CuadroTexto"/>
          <p:cNvSpPr/>
          <p:nvPr/>
        </p:nvSpPr>
        <p:spPr>
          <a:xfrm>
            <a:off x="6904080" y="1424160"/>
            <a:ext cx="19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200" spc="-1" strike="noStrike">
                <a:solidFill>
                  <a:srgbClr val="000000"/>
                </a:solidFill>
                <a:latin typeface="Arial"/>
              </a:rPr>
              <a:t>Pasiv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4 Conector angular"/>
          <p:cNvCxnSpPr>
            <a:stCxn id="86" idx="1"/>
          </p:cNvCxnSpPr>
          <p:nvPr/>
        </p:nvCxnSpPr>
        <p:spPr>
          <a:xfrm rot="10800000">
            <a:off x="4210920" y="1851120"/>
            <a:ext cx="686520" cy="250920"/>
          </a:xfrm>
          <a:prstGeom prst="bentConnector3">
            <a:avLst>
              <a:gd name="adj1" fmla="val 50000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" name="6 Conector recto de flecha"/>
          <p:cNvCxnSpPr>
            <a:stCxn id="91" idx="1"/>
          </p:cNvCxnSpPr>
          <p:nvPr/>
        </p:nvCxnSpPr>
        <p:spPr>
          <a:xfrm flipH="1">
            <a:off x="1896480" y="1952640"/>
            <a:ext cx="562680" cy="23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1" name="24 Conector curvado"/>
          <p:cNvCxnSpPr>
            <a:stCxn id="89" idx="1"/>
            <a:endCxn id="92" idx="3"/>
          </p:cNvCxnSpPr>
          <p:nvPr/>
        </p:nvCxnSpPr>
        <p:spPr>
          <a:xfrm flipV="1" rot="10800000">
            <a:off x="1743840" y="3411000"/>
            <a:ext cx="869040" cy="742320"/>
          </a:xfrm>
          <a:prstGeom prst="curvedConnector5">
            <a:avLst>
              <a:gd name="adj1" fmla="val 49979"/>
              <a:gd name="adj2" fmla="val 49975"/>
              <a:gd name="adj3" fmla="val 49979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2" name="30 Conector curvado"/>
          <p:cNvCxnSpPr>
            <a:stCxn id="89" idx="3"/>
            <a:endCxn id="93" idx="1"/>
          </p:cNvCxnSpPr>
          <p:nvPr/>
        </p:nvCxnSpPr>
        <p:spPr>
          <a:xfrm>
            <a:off x="3981600" y="3411360"/>
            <a:ext cx="784800" cy="694800"/>
          </a:xfrm>
          <a:prstGeom prst="curvedConnector5">
            <a:avLst>
              <a:gd name="adj1" fmla="val 49977"/>
              <a:gd name="adj2" fmla="val 49974"/>
              <a:gd name="adj3" fmla="val 49977"/>
            </a:avLst>
          </a:prstGeom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4111 Rectángulo"/>
          <p:cNvSpPr/>
          <p:nvPr/>
        </p:nvSpPr>
        <p:spPr>
          <a:xfrm>
            <a:off x="1476360" y="5084640"/>
            <a:ext cx="4335480" cy="1179720"/>
          </a:xfrm>
          <a:prstGeom prst="rect">
            <a:avLst/>
          </a:prstGeom>
          <a:solidFill>
            <a:srgbClr val="2d2d8a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ffffff"/>
                </a:solidFill>
                <a:latin typeface="Arial"/>
              </a:rPr>
              <a:t>Acción preferente, participación preferente, valor preferencial o simplemente preferente, en economía, bolsa y finanzas es aquel valor o acción emitido por una sociedad -banco, caja de ahorros o empresa financiera- que no confiere ninguna cuota en su capital ni tampoco derecho de voto en la junta de accionistas. Son perpetuas, no tienen vencimiento y su rentabilidad no está garantizada, ya que está vinculada a la obtención de benefi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5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Arial"/>
              </a:rPr>
              <a:t>Una entidad (el comprador) adquiere mercadería de un proveedor a crédito de 6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3 Rectángulo redondeado"/>
          <p:cNvSpPr/>
          <p:nvPr/>
        </p:nvSpPr>
        <p:spPr>
          <a:xfrm>
            <a:off x="179280" y="1268280"/>
            <a:ext cx="21607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Recortar rectángulo de esquina sencilla"/>
          <p:cNvSpPr/>
          <p:nvPr/>
        </p:nvSpPr>
        <p:spPr>
          <a:xfrm>
            <a:off x="6661080" y="3645000"/>
            <a:ext cx="2448000" cy="1044360"/>
          </a:xfrm>
          <a:prstGeom prst="pie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6 Conector angular"/>
          <p:cNvCxnSpPr>
            <a:stCxn id="106" idx="3"/>
            <a:endCxn id="107" idx="6"/>
          </p:cNvCxnSpPr>
          <p:nvPr/>
        </p:nvCxnSpPr>
        <p:spPr>
          <a:xfrm>
            <a:off x="2339640" y="1808280"/>
            <a:ext cx="5545800" cy="1837440"/>
          </a:xfrm>
          <a:prstGeom prst="bent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09" name="7 Rectángulo"/>
          <p:cNvSpPr/>
          <p:nvPr/>
        </p:nvSpPr>
        <p:spPr>
          <a:xfrm>
            <a:off x="6084720" y="1197000"/>
            <a:ext cx="280836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MERCADERIA AL CRE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9 CuadroTexto"/>
          <p:cNvSpPr/>
          <p:nvPr/>
        </p:nvSpPr>
        <p:spPr>
          <a:xfrm>
            <a:off x="2916360" y="3044880"/>
            <a:ext cx="24476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UTILIZAN UN 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800" spc="-1" strike="noStrike" u="sng">
                <a:solidFill>
                  <a:srgbClr val="000000"/>
                </a:solidFill>
                <a:uFillTx/>
                <a:latin typeface="Arial"/>
              </a:rPr>
              <a:t>UN 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13 Conector angular"/>
          <p:cNvCxnSpPr>
            <a:stCxn id="106" idx="2"/>
            <a:endCxn id="110" idx="1"/>
          </p:cNvCxnSpPr>
          <p:nvPr/>
        </p:nvCxnSpPr>
        <p:spPr>
          <a:xfrm flipH="1" rot="16200000">
            <a:off x="1439640" y="2167920"/>
            <a:ext cx="1296360" cy="165816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15 Conector angular"/>
          <p:cNvCxnSpPr>
            <a:stCxn id="107" idx="7"/>
            <a:endCxn id="110" idx="3"/>
          </p:cNvCxnSpPr>
          <p:nvPr/>
        </p:nvCxnSpPr>
        <p:spPr>
          <a:xfrm rot="10800000">
            <a:off x="5363280" y="3644280"/>
            <a:ext cx="1297800" cy="523080"/>
          </a:xfrm>
          <a:prstGeom prst="bentConnector3">
            <a:avLst>
              <a:gd name="adj1" fmla="val 50000"/>
            </a:avLst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421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Arial"/>
              </a:rPr>
              <a:t>La entidad A le compra una subsidiaria a la entidad B. Según el contrato, la entidad A paga el precio de compra en dos cuotas: 5 millones de u.m.(1) por adelantado y un pago posterior (que no constituye un pago contingente) de 5 millones de u.m., dos años despu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6640"/>
            <a:ext cx="73407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¿QUE ENTEDEMOS POR INTRUMENTOS FINANCIER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35280" y="2060280"/>
            <a:ext cx="5184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700" spc="-1" strike="noStrike">
                <a:solidFill>
                  <a:srgbClr val="000000"/>
                </a:solidFill>
                <a:latin typeface="Arial"/>
              </a:rPr>
              <a:t>Es una herramienta intangible, un servicio o producto ofrecido por una entidad financiera, intermediario, agente económico o cualquier ente con autoridad y potestad necesaria para poder ofrecerlo o demandarl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2.gstatic.com/images?q=tbn:ANd9GcQlA9lVcYEhG-ONani-Du-oVg2UFKvmTAi8qKHiuxDLsB1uuSB1dQ"/>
          <p:cNvPicPr/>
          <p:nvPr/>
        </p:nvPicPr>
        <p:blipFill>
          <a:blip r:embed="rId1"/>
          <a:stretch/>
        </p:blipFill>
        <p:spPr>
          <a:xfrm>
            <a:off x="395280" y="2205000"/>
            <a:ext cx="30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Rectángulo redondeado"/>
          <p:cNvSpPr/>
          <p:nvPr/>
        </p:nvSpPr>
        <p:spPr>
          <a:xfrm>
            <a:off x="468360" y="1079640"/>
            <a:ext cx="1511280" cy="1584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1584360"/>
              <a:gd name="textAreaBottom" fmla="*/ 1510920 h 1584360"/>
            </a:gdLst>
            <a:ahLst/>
            <a:rect l="textAreaLeft" t="textAreaTop" r="textAreaRight" b="textAreaBottom"/>
            <a:pathLst>
              <a:path w="21600" h="22644">
                <a:moveTo>
                  <a:pt x="3600" y="0"/>
                </a:moveTo>
                <a:arcTo wR="3600" hR="3600" stAng="16200000" swAng="-5400000"/>
                <a:lnTo>
                  <a:pt x="0" y="19044"/>
                </a:lnTo>
                <a:arcTo wR="3600" hR="3600" stAng="10800000" swAng="-5400000"/>
                <a:lnTo>
                  <a:pt x="18000" y="226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4 Rectángulo redondeado"/>
          <p:cNvSpPr/>
          <p:nvPr/>
        </p:nvSpPr>
        <p:spPr>
          <a:xfrm>
            <a:off x="5940360" y="1068480"/>
            <a:ext cx="158436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ENT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 Recortar rectángulo de esquina diagonal"/>
          <p:cNvSpPr/>
          <p:nvPr/>
        </p:nvSpPr>
        <p:spPr>
          <a:xfrm>
            <a:off x="2879640" y="2573280"/>
            <a:ext cx="2160720" cy="1079640"/>
          </a:xfrm>
          <a:prstGeom prst="pi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SUBSID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7 Conector recto de flecha"/>
          <p:cNvCxnSpPr>
            <a:stCxn id="115" idx="3"/>
          </p:cNvCxnSpPr>
          <p:nvPr/>
        </p:nvCxnSpPr>
        <p:spPr>
          <a:xfrm>
            <a:off x="1979640" y="1871280"/>
            <a:ext cx="3961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9 CuadroTexto"/>
          <p:cNvSpPr/>
          <p:nvPr/>
        </p:nvSpPr>
        <p:spPr>
          <a:xfrm>
            <a:off x="2981160" y="13809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Arial"/>
              </a:rPr>
              <a:t>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11 Conector angular"/>
          <p:cNvCxnSpPr>
            <a:stCxn id="116" idx="2"/>
            <a:endCxn id="117" idx="8"/>
          </p:cNvCxnSpPr>
          <p:nvPr/>
        </p:nvCxnSpPr>
        <p:spPr>
          <a:xfrm rot="5400000">
            <a:off x="5655600" y="2036520"/>
            <a:ext cx="460800" cy="1693080"/>
          </a:xfrm>
          <a:prstGeom prst="bentConnector2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13 Conector angular"/>
          <p:cNvCxnSpPr>
            <a:stCxn id="117" idx="9"/>
            <a:endCxn id="115" idx="2"/>
          </p:cNvCxnSpPr>
          <p:nvPr/>
        </p:nvCxnSpPr>
        <p:spPr>
          <a:xfrm rot="10800000">
            <a:off x="1223280" y="2663280"/>
            <a:ext cx="1656360" cy="449640"/>
          </a:xfrm>
          <a:prstGeom prst="bentConnector2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2" name="14 CuadroTexto"/>
          <p:cNvSpPr/>
          <p:nvPr/>
        </p:nvSpPr>
        <p:spPr>
          <a:xfrm>
            <a:off x="5076720" y="27129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0000"/>
                </a:solidFill>
                <a:latin typeface="comic"/>
              </a:rPr>
              <a:t>CONT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9 Rectángulo"/>
          <p:cNvSpPr/>
          <p:nvPr/>
        </p:nvSpPr>
        <p:spPr>
          <a:xfrm>
            <a:off x="6732720" y="3244680"/>
            <a:ext cx="2016000" cy="1295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INSTRUMENTO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7030a0"/>
                </a:solidFill>
                <a:latin typeface="Arial"/>
              </a:rPr>
              <a:t>PAG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24 Conector angular"/>
          <p:cNvCxnSpPr>
            <a:stCxn id="117" idx="10"/>
            <a:endCxn id="123" idx="1"/>
          </p:cNvCxnSpPr>
          <p:nvPr/>
        </p:nvCxnSpPr>
        <p:spPr>
          <a:xfrm flipH="1" rot="16200000">
            <a:off x="5226120" y="2385720"/>
            <a:ext cx="240480" cy="27741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25 Rectángulo"/>
          <p:cNvSpPr/>
          <p:nvPr/>
        </p:nvSpPr>
        <p:spPr>
          <a:xfrm>
            <a:off x="826920" y="4149720"/>
            <a:ext cx="2659320" cy="205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 u="sng">
                <a:solidFill>
                  <a:srgbClr val="000000"/>
                </a:solidFill>
                <a:uFillTx/>
                <a:latin typeface="Arial"/>
              </a:rPr>
              <a:t>SUBSIDIAR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400" spc="-1" strike="noStrike">
                <a:solidFill>
                  <a:srgbClr val="000000"/>
                </a:solidFill>
                <a:latin typeface="Arial"/>
              </a:rPr>
              <a:t>ES UNA ENTIDAD CONTROLADA POR LA CONTROLADORA. CONTROL ES EL PODER PARA DIRIGIR LAS POLITICAS FINANCIERA Y DE OPERACIÓN DE UNA ENT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www.maplusa.com/wp-content/uploads/2014/04/12927.jpg"/>
          <p:cNvPicPr/>
          <p:nvPr/>
        </p:nvPicPr>
        <p:blipFill>
          <a:blip r:embed="rId1"/>
          <a:stretch/>
        </p:blipFill>
        <p:spPr>
          <a:xfrm>
            <a:off x="127080" y="1413000"/>
            <a:ext cx="8875800" cy="3671640"/>
          </a:xfrm>
          <a:prstGeom prst="rect">
            <a:avLst/>
          </a:prstGeom>
          <a:ln w="0">
            <a:noFill/>
          </a:ln>
        </p:spPr>
      </p:pic>
      <p:sp>
        <p:nvSpPr>
          <p:cNvPr id="127" name="1 CuadroTexto"/>
          <p:cNvSpPr/>
          <p:nvPr/>
        </p:nvSpPr>
        <p:spPr>
          <a:xfrm>
            <a:off x="2411280" y="33336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ffffff"/>
                </a:solidFill>
                <a:latin typeface="Arial"/>
              </a:rPr>
              <a:t>EL PA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7200" spc="-1" strike="noStrike">
                <a:solidFill>
                  <a:srgbClr val="000000"/>
                </a:solidFill>
                <a:latin typeface="Arial"/>
              </a:rPr>
              <a:t>MUCHAS GRACIAS POR SU ATENC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INSTRUMENTOS FINANCIEROS SEGÚN NIF PARA P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00000" y="1773360"/>
            <a:ext cx="74995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000" spc="-1" strike="noStrike">
                <a:solidFill>
                  <a:srgbClr val="000000"/>
                </a:solidFill>
                <a:latin typeface="Arial"/>
              </a:rPr>
              <a:t>11.3 Un instrumento financiero es un contrato que da lugar a un activo financiero de una entidad y a un pasivo financiero o a un instrumento de patrimonio de otr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 Imagen" descr="untitled.png"/>
          <p:cNvPicPr/>
          <p:nvPr/>
        </p:nvPicPr>
        <p:blipFill>
          <a:blip r:embed="rId1"/>
          <a:stretch/>
        </p:blipFill>
        <p:spPr>
          <a:xfrm>
            <a:off x="2843280" y="390528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ffffff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0000" y="1700280"/>
            <a:ext cx="749952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Su objetivo es satisfacer las necesidades de financiación o inversión de los agentes económicos de una sociedad dando circulación al dinero generado en unos sectores y trasladándolo a otros sectores que lo necesitan, generando a su vez riqu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-28800"/>
            <a:ext cx="770436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LOS INTRUMENTOS FINANCIEROS SE ANALIZAN DE DOS MANE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CuadroTexto"/>
          <p:cNvSpPr/>
          <p:nvPr/>
        </p:nvSpPr>
        <p:spPr>
          <a:xfrm>
            <a:off x="1258920" y="2060640"/>
            <a:ext cx="684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mis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rspectiva de presta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43040" indent="-74304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MISTA (INVER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5640" y="1700280"/>
            <a:ext cx="74995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mista es el agente que deja el dinero a otro agente a cambio de un precio. El prestamista también es un inversor, ya que por el préstamo que está haciendo obtendrá un precio que se traducirá en un beneficio o rendimiento a su fav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PERSPECTIVA DEL PREST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71280" y="1628640"/>
            <a:ext cx="7497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l prestatario es el agente que recibe el dinero del prestamista, es decir, es financiado por el otro agente, recibe el dinero y a cambio tendrá que devolver el dinero que ha recibido más el precio pactado y que supone para él un coste, al contrario que para el prestat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49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ffffff"/>
                </a:solidFill>
                <a:latin typeface="Arial"/>
              </a:rPr>
              <a:t>CARACTERISTICAS DE LOS INTRUMENT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99640" y="1700280"/>
            <a:ext cx="75106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350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Es el que transcurre entre que se emite el préstamo o se realiza la inversión y se devuelve el préstamo o finaliza la inversión (meses, años,…), tiempo de recaudación de ganancias, de pago de cuotas, de revisión de tipo de inte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26920" y="1052640"/>
            <a:ext cx="743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RENDIMIENTO</a:t>
            </a:r>
            <a:br>
              <a:rPr sz="3200"/>
            </a:br>
            <a:r>
              <a:rPr b="1" lang="es-S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00000"/>
                </a:solidFill>
                <a:latin typeface="Arial"/>
              </a:rPr>
              <a:t>Porcentaje o cantidad de dinero que el inversor obtiene por satisfacer la necesidad del otro agente (5% en el ejemplo anterior) y que en el caso del que recibe el dinero no es un rendimiento, sino un cos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Estudiante</cp:lastModifiedBy>
  <dcterms:modified xsi:type="dcterms:W3CDTF">2014-09-17T00:09:12Z</dcterms:modified>
  <cp:revision>731</cp:revision>
  <dc:subject/>
  <dc:title>Diapositiva 1</dc:title>
</cp:coreProperties>
</file>