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F977B1-B97A-4D9A-8E63-DCEC351F210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BBED-7F56-4C86-973A-A9D16C8717B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03BDF5-B80F-4A74-9BC1-7E3B63971437}"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8471FF-2209-4EC2-B708-931A163DB572}"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0BF873-E125-4C08-BE62-D50B5B28F6BB}"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480AFA-A679-4419-A9DD-706C1EA5B7A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BA5068-CF30-4CC9-9A97-AAE2BA29597A}"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EAF706-1747-40BF-8957-C445D5554BC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90BC3-5CEF-4CFC-AB3F-E1289FCE3C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9E3E579A-EE87-422C-93CC-E7354710F55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E7B6F6-F220-44AD-8D57-EFABFA55FD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039B3D05-80DF-4114-A30C-C2CDE63861E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52CE6E-BFBB-40B4-BD35-482F7E0513E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3655F7-CFAA-47DC-9FD2-98E5669F9B9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1D38D0-E469-41B8-8C9C-D112DAC2ED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E027F2-F4D4-4775-A079-ED8E7269EC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35FEDC-F37B-4BAD-9685-A25310D0CB7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156052-3FCE-465B-9AC3-4B54A755931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DB0123-111C-484E-A986-CD9054C275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55EFDE-0C1B-4A48-9C68-12402593487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B965FC-B5B6-458E-AF34-53C8D733E8A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6BC743A-6FDA-40A9-A107-A96338755E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F410E529-42F6-493F-8DEA-F24761B641B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C32C987-A457-4156-B580-325CCBB2073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CCE9E1D-2C65-4587-9F3F-CC01BAE36F9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B308DFA-384C-4ADC-AE24-33556F25B5D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285E7D3-45CA-437B-AE32-4D5BE75D6A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852DBEF-6000-4EC7-A693-A95A0545E9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97797B0-B181-474A-B525-0CB6C442F2D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A4ECBE3-DD51-434E-9CDE-1CA97BE4DE5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53E8A1F-A2E2-4BE9-ADDD-9EC52AA55A4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E56592-4A84-4B84-8597-49CFBC5A9B2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150A432-BE7D-4234-85A5-2278512F6E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45278CA-A553-43A0-B0DD-BDED8A9F00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C05D45A-2AEE-471C-8938-A22FA4D4232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E505CBA-5CB1-4574-9F06-699163CF2C6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D256F8-FB20-4B5F-BA94-4F4E3D9ACA2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09D86D-1A99-4101-B020-BCB71747D21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E5360-0792-42BE-98AD-1BF72219D40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2EC6B-99DC-4EB1-B56C-C04D1D15DA8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3ABD1-0D82-4832-B817-A2BBD8A94E9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8ACDC-C52F-46DB-951D-08D202714DE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64B3A-8871-4D58-9756-27CA29C907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612F9-B479-4291-B5F1-78ED4CC110D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59804-4C68-4F78-A72E-2DBC55010FD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98BF69-AEAE-4744-BCA6-8DC3A7CDA3C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94D157-4572-460F-8DE7-99A6A11BB2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E0B4FC-BD5E-4B6C-B023-015F8CB56BE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E1CC52A-C83C-4397-A765-F6A50356146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05BEDB7-03C6-4B23-813A-C9505847925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D12B9D-94C5-441A-9707-CAA612A340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C973050-87F7-434A-8394-0708CF5BADE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950AD47-DD2A-4F83-BD14-1E43D600F29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9CFB21-7CA4-4D81-8412-64F468B6B96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AEE3A80-DEAC-45D5-BBD8-657E4F39AF3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EA1AA3-E00C-461E-A02B-E59AA479C2A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8F0343-4999-4AAA-9BAE-AA74FD63468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A06ABF8-5A5E-451A-8A3B-BFCBDE7AA55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AC5A2C9-A183-4F57-A192-A1AE60DC99E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23F3243-8A25-4C0F-9FCA-12934784BBA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73F3EE-4609-402E-8DBF-CD449A5E69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9B3FCE-FD34-417F-969B-8C37B10CAE6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2503A9-8F91-4BE4-9B90-5EF7877E19B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DCF95A-95E3-40FC-BAED-F51105D8284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81ACD2-95EE-4987-AEF4-3C14277D9EA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B5CB3F-E2B3-4061-9092-41F04957953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18083-CC4B-4384-B154-6E20D120E11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3A628-1212-4CD8-9AC2-A7D070A68CC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B0717B-47B6-4B0B-BBEC-CDFA942F4D4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DDDF07-325E-4B7C-95B3-951F20B48E2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791711-94D3-4BBF-B3C2-2BFD5F9666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2FEE6D-C40E-475D-B6D1-776CEA1ABAD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DCB1732-043F-4BB2-AF63-337A7FF413C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858BBF7-D125-4613-8DD8-A535C2F73A8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EB4EF3B-282C-4D08-905A-810130AF45E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7462FAE-9A51-47F8-B455-832C66E266F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35197FC-9D53-4FC1-A6EA-1B4896256DB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96E5CE7-AAF0-41BE-A8AE-2EB3DE46249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7D46F3-AE38-423B-AC98-3D2211C5963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2618EE-C758-492E-942F-86408E65DA6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A87334-9FA6-4B99-A7C7-2B47FEE4A9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37A068B-5ECC-4A6C-A16D-5AEB4437A60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1660D83-652C-4A6F-A61B-4C5512273A2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46FFE75-4098-4ADF-A7E3-FBC1DFB20B5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F1D53F4-3527-442E-BAAE-74A15E9C67F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33C11E2-647C-4FB6-99F1-7035707B10E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14B8C83-2F9B-409B-87D3-A74651D3314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A978010-76C7-436A-9D3B-6E3383DCB5D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9F6F401-4840-4896-ACE1-02276B2B919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E3C4BAA-C56F-4A2C-91C9-C688295B9E6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85402D1-D2BC-4D3D-8B16-E9E3F88F6A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6FE7689D-F370-4354-A231-EADA1898AF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F9C6223-FA61-4626-9E5F-46F87569717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F3DA223-CE25-4000-8CEE-DE603A57440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6400C49-90BB-482E-83B6-F7A21DB8F04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3758CAF-7D2A-4FA5-A190-52CFE756F1D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E24FF80-59D7-41A6-900B-F0E6B5417C9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A51CEE-F84D-4328-B439-8625BA89A1E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38F1EC-C7AB-43B1-85CC-65E66FACFAD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5F0E10-2FA4-4CF2-8C07-F60575DBD15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BAC1A9-BA28-4A5B-A4A0-60F7F2BA833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F12ADA-F0E7-4BCB-8288-DDC925D961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1E7BF2-55BD-406D-B687-6C82EDE43B6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86BDC1-595E-4930-B138-64D9D13403C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16E50-7B4F-4071-80E4-BF3A881641C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D303E2-E723-4DB0-B947-E2BE9C24C0D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379DE7-104F-4A49-8DD7-797BB36342E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4F42A2-98DF-4D75-AEE0-BFE8AF86F62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D410E1-932C-4C73-B4C0-4DBC243BD0E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31EBC2D6-1930-46D9-A0B3-7920789641D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D8C7E838-D574-4A13-836B-BE882795447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CCC8C388-A5BC-4640-A99E-0CC477069F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7AB81A3C-C75C-473D-BA79-F72F5947438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AECCE6D5-C67A-4426-9DA2-650AC352428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5AB77D85-60CA-454A-B69B-4B726B53EBC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65FC7704-3F07-401C-9C20-6C46C81DEE8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2724CA04-A90E-4BA3-A910-9EE21891E19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DFC82801-ED9D-45BC-A37A-0FB2FD95A8F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258DC974-AF62-46B3-8862-4489106E5AC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8F5E17B5-415B-4705-AD13-2E6BE0BF87B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2DA80C37-84F9-44B0-B34B-F1C8BDE576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F4858F18-F571-4C9D-B54C-EFA3C6F2A6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771E68E9-9B40-44BA-A52F-B5B101D4BA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3AC978EA-F3E1-49AF-9FEA-4F44B0B37E8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90ACD9F0-2730-4693-B729-F56C1FE08C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73D7437F-05ED-4111-8853-B80F01649E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2BB48CC-76D4-4821-B8B9-080FF812DC6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36FCAD-EFAB-4C5B-96AC-1403EC11331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E8C4A7-1B0E-4C25-ABD3-F6D9E4C0E8F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31FB9E-833A-4E39-96D0-38D87CB6C58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BBB9C7-675D-45B4-806B-8F8BAD69816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D222F1-8E6A-486C-B5E8-AAE2CE4D265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3E368A-C67F-4FE1-9F12-9CA627C379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CF4279EA-5113-425B-A5A9-D2A31AC9DB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695CD0-FAE9-42C6-BDB8-372F0E32E8F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7DA5C7-B877-4E04-8DA7-82914116DD0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6771D0-9FDD-4FDA-A092-BFDD2524222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884EA1-0A44-42CC-9AD3-1B9DF6BC011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FF62672-7117-4BDA-9F5B-1083A665CF2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CFD54943-F138-44E2-A67C-4F4D052C02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39B6-E741-40A0-9740-98943733A56E}"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DB0F-8A02-484E-AC93-E145183DDC37}"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CEC5-F1DC-4532-ABF3-818FC3421B5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157F-0F8B-4BE2-A412-228CDA74D84D}"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5CC0-858F-49D0-9558-9F595DC6D724}"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78E7-A4FC-4370-BA51-F281474331EB}"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967D-4F8A-40CC-AE7D-BC8A014F56B3}"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070B-3BBE-425D-B5B0-FDEAA0B0DCB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B4D4-61AD-4E11-8A23-6F3BC59E456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25CC-B436-4C99-ADEB-1A1F5F37C04A}"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1A59-7880-4C40-94C1-BF9D02779F59}"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811A-B8B8-41AC-B190-0C3C7F89D9C3}"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BF01-5952-4DF8-ADB4-261979305AEA}"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7AE3-EB1A-497F-B9FE-CE42A358DDC6}"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7D53-256E-43E2-88E2-33B1FF27FEF7}" type="datetime3">
              <a:rPr b="0" lang="en-US" sz="1200" spc="-1" strike="noStrike">
                <a:solidFill>
                  <a:srgbClr val="5f6062"/>
                </a:solidFill>
                <a:latin typeface="Arial"/>
              </a:rPr>
              <a:t>July 30,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FCDF-15C3-4204-8A9A-C934EDD1429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BF64-B587-43DD-A24C-6AE7CEB4CA00}"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2212-1BD2-4116-9F75-9B1BF37B401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2385-5C73-479C-B40B-4BB63478DDD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87AE-8AB7-42CA-9DDE-97116F10838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C2DE-0FEC-4BCB-AEA3-EE5762F88434}"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D8D4-4E05-4A70-9832-0F8CD925EC5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2E4D-E81F-462A-B68F-38555AD9B93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88E5-D117-44D8-9ABE-320C0342C1BE}"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DF88-508F-4148-A3B6-BADF0AA7D55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32F9-238C-429A-9C3A-4EAD538E9C38}"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90BD-E469-4F94-9475-A9512DA7FBE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C026-C8EE-413D-807D-A9CB90B7E48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E4F0-B59C-4928-8022-B1671F88379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CD5E-641A-46A2-B963-3E2B49FA3986}"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40E7-BADC-441C-A015-473C902F4968}"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561C-32F9-49D6-BB22-AC0FA478D76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2BA5-11C0-4DF2-9A70-CD0C38B56A43}"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F7D5-567A-4104-ABF8-4A803450FB5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5904-D5BC-4493-9D06-2B2BD7D96B4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5171-5BD2-47BB-A9AA-40EDF09E9DC7}"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B7CC-AC9E-42E5-936D-7093443C3B2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6144-DCB4-4C5E-BE7C-20493A9B0C9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FA10-AAE8-4632-BC80-43AE7C0D16F1}"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